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8BA4-0428-4816-BD59-61A3C2B66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4AF2-56DF-482D-A7D4-AE219D93E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0DA7-1C40-4E6F-8BB3-F8BE468A7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381C-D13B-44C8-9FF3-EFC1E5B17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EA3E-2361-44D2-BE29-E28E9CFA0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9D00-7A58-4E11-B943-EFF9B220F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9526-2D12-44CE-8247-E78EF3591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266F-77D9-49A6-BC5B-5D1A4C29F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31AF-8024-4BF3-A065-062A46D8C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8C1A-68AD-4425-A603-A8BC7F1A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073-A97B-4EBF-9167-2DA8C345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2C4-7854-42B0-816A-6ACB20CC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969-138C-40B0-B3A4-ADF8BA65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9600-58C0-4ED3-BA85-9A998D72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093B-E2C0-47A5-B538-4D0F23ED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D8D9-7EE8-4741-9FD4-22927E4A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D9AB-B363-4CF1-9B73-6D1F3014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C4A8-6FB4-4A08-868F-212BBCC6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3126-60CB-415A-BEDA-597EB69D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16FF-3C00-4585-9E72-760C9628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A97-876B-404A-A68B-AA1F99A5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C0B9-10E2-45AA-87E6-B905B719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C166-7A4A-46BC-9046-FEE15DEE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9211-B267-47CD-AB66-C5D6D80C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668B-D57F-4744-8D75-3F08BDC3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7905-C6E1-4C5D-A179-2CC081DF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57B5E-7F07-4BFD-BC10-F520C9FC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F1FD4-8D7E-477D-8E93-CAD641C6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B6DD-77A1-4DC0-BCCA-6A134653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CAE16-65A9-4360-A587-BFB734AC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C8936-F2FE-4859-87B2-3BFBFA0B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A18-9A3B-4E58-80CD-325CD995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D1B98-AFF7-4E4E-9914-1D6D3D8F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0B50E-62CD-454D-A000-BF12D85C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D4FF7-67D5-4899-99D4-9CA96234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C8D3A-6C3A-4875-BCD3-E4E5A963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681DF-7AAE-4D6C-BE95-8213286D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5942A-C88A-4805-BC04-C381924E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D1083-33E0-427E-BD5B-1D998DAC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2D135-D9B2-40F3-A951-0AB4656A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D1C58-FB92-43B7-93E4-B958C936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362B9-910B-46AA-B774-272AB359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249-BF05-48E9-BD4D-545E1138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DD388-0B14-466D-917B-CC21C3F6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D1E71-F13B-4F19-9163-7EA7DD45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D6151-B5C5-48E5-9202-C8C74DAA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EA5DB-3EDF-4321-99E2-45B59960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3B1FC-DF9C-4C4C-ADE9-F3B6B986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E19C6-BBCA-444A-B8D1-3DD467A7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EE606-0D67-4A61-AFA9-A537F7F6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368B8-21EE-4299-8F23-4D1D4C0F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0E031-1D4E-4626-909B-32AB1BD8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0B4C6-AE2C-491A-9596-9EC56E74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C4D-CDE1-4CEE-A9AC-4047A33F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7F5D6-62DE-44A5-B728-18FDD5F2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F0468-67F4-450E-85C7-5572306C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52315-9514-4B3B-8A5A-8B54A876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3F9C0-5C13-41A6-8D8A-3CD87EBE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96383-908E-45FF-8A9C-5138E887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088F6-D5E4-4FB0-AFCC-FEA0C5AB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2BC69-73C8-4746-978C-1F565EA1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5B20E-184C-4FC9-94C7-740FB922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4705C-BA01-4FB9-B186-D7C16AFE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80D7E-2C9F-49E0-A25C-2AEDDA04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F92-8660-40EE-9F5D-D8DC647E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2B5CE-3717-4170-8E6F-BA2C32CB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FB0-C080-4D92-85AB-BCC7ED88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FA4-277E-4C8D-8096-9AAAE3E2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393C-CE37-4EAA-BF69-7AC814F8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5A93-9AE6-4769-A966-7456CD60323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C4C0-8DBB-42BF-95DC-468E6C8BC39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7F1A-E1A3-438D-BDD5-64E021FD191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35EB-FADA-4F9E-804A-C16D5B89184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411D-F8B5-4063-B910-A533E29E888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AC_ENG_3Colour"/>
          <p:cNvPicPr/>
          <p:nvPr/>
        </p:nvPicPr>
        <p:blipFill>
          <a:blip r:embed="rId1"/>
          <a:stretch/>
        </p:blipFill>
        <p:spPr>
          <a:xfrm>
            <a:off x="2971800" y="2935440"/>
            <a:ext cx="3048120" cy="110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4" name="Text Box 14"/>
          <p:cNvSpPr/>
          <p:nvPr/>
        </p:nvSpPr>
        <p:spPr>
          <a:xfrm>
            <a:off x="2362320" y="49528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OCASI Training for Employment Support Services     05. 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2"/>
          <p:cNvSpPr/>
          <p:nvPr/>
        </p:nvSpPr>
        <p:spPr>
          <a:xfrm>
            <a:off x="3124080" y="6095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ded by the Government of Ontar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7" name="Text Box 8"/>
          <p:cNvSpPr/>
          <p:nvPr/>
        </p:nvSpPr>
        <p:spPr>
          <a:xfrm>
            <a:off x="990720" y="914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Backgr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1371600" y="1752480"/>
            <a:ext cx="701028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The Access Centre for Regulated Employment is the first provincially-fun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access centre of its kind outside of the Greater Toronto Are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The Access Centre for Regulated Employment provides accurate licen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information and application assistance to newcomers seeking careers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Ontario’s regulated profe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The project is funded by the Ministry of Citizenship and Immigration and is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partnership of 3 local not-for-profit organizations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WIL Employment Connections (managing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London Cross Cultural Learner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L' Association Canadienne-Francaise de l' Ontario (ACFO), London-Sar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8"/>
          <p:cNvSpPr/>
          <p:nvPr/>
        </p:nvSpPr>
        <p:spPr>
          <a:xfrm>
            <a:off x="99072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Regulated Prof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371600" y="1828800"/>
            <a:ext cx="34290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Archit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Audiologist and Speech-Langu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ath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ertified Engineering Technician an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Techn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ertified General Accoun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ertified Management Accoun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hartered Accoun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hiropodist and Podiatr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hiropr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Dental Hygie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Dental Techn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Dent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Dentur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Dietit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Early Childhood Educ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For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Land Survey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Lawyer (including Paraleg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Massage Therap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4952880" y="1828800"/>
            <a:ext cx="388620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Medical Laborat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Techn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Medical Radiation Techn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Midw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N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Occupational Therap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Optic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Optometr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harmac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hysic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hysiotherap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rofessional Engine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rofessional Geoscient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sych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Respiratory Therap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Social Worker and Soc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Service Wor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Tea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Veterinar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54" name="Text Box 11"/>
          <p:cNvSpPr/>
          <p:nvPr/>
        </p:nvSpPr>
        <p:spPr>
          <a:xfrm>
            <a:off x="1371600" y="1066680"/>
            <a:ext cx="701028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3122f"/>
                </a:solidFill>
                <a:latin typeface="Arial"/>
              </a:rPr>
              <a:t>Cli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Access Centre partners with ITI's in a business relationship with the goal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licensure or employment in a regulated prof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Provide current and credible information and application assistance in a context of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each individuals education, career history and personal go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c00000"/>
                </a:solidFill>
                <a:latin typeface="Arial"/>
              </a:rPr>
              <a:t>Community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595959"/>
                </a:solidFill>
                <a:latin typeface="Arial"/>
              </a:rPr>
              <a:t>Access Centre provides an adjunct service for employment counsellors, settlement and library workers in the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3122f"/>
                </a:solidFill>
                <a:latin typeface="Arial"/>
              </a:rPr>
              <a:t>Emplo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Access Centre is one of the ‘tools’ in place for companies to effective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connect with immigrant t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56" name="Text Box 10"/>
          <p:cNvSpPr/>
          <p:nvPr/>
        </p:nvSpPr>
        <p:spPr>
          <a:xfrm>
            <a:off x="990720" y="1066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-76320" y="1143000"/>
            <a:ext cx="106704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1295280" y="1600200"/>
            <a:ext cx="70106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Help Internationally trained immigrants understand and navigate the comple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licensure process in On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Help client’s understand international equivalencies including source verification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make informed  career and licensure related decisions (WES, ICAS,CES e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Facilitate document procurement  from educational institutions, ministrie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education, library archives, previous emplo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Facilitate legal  requirements in the document process (notarization, attestation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Ensure ITI’s submit favourable applications to their regulatory bo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Assist with post application requirements for those interested in achieving fu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licensure in their fie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666666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60" name="Text Box 8"/>
          <p:cNvSpPr/>
          <p:nvPr/>
        </p:nvSpPr>
        <p:spPr>
          <a:xfrm>
            <a:off x="990720" y="1066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Barriers to Licen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371600" y="2133720"/>
            <a:ext cx="701028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Some of the more common barriers faced by Internationally Trained Immigrants  (ITI’s) in regulated professions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redential recogni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Work experience recog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Recency of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anadian experienc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Language and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osts associated with licensure ( Application fees, translations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ost application examin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63" name="Text Box 10"/>
          <p:cNvSpPr/>
          <p:nvPr/>
        </p:nvSpPr>
        <p:spPr>
          <a:xfrm>
            <a:off x="990720" y="1066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Good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-76320" y="1143000"/>
            <a:ext cx="106704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1295280" y="1600200"/>
            <a:ext cx="7010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The Office of the Fairness Commissioner repor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The professions with the highest proportion of internationally trained members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Pharmacy 3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Audiology and Speech Language Pathology  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Chiropractic  2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Dental Technology  2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Physicians and Surgeons  2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Dentals Surgeons  2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Engineering  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8"/>
          <p:cNvSpPr/>
          <p:nvPr/>
        </p:nvSpPr>
        <p:spPr>
          <a:xfrm>
            <a:off x="990720" y="1066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990720" y="2286000"/>
            <a:ext cx="6019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Access Centre for Regulated Employ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171 Queens Avenue, Suite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London, ON  N6A 5J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info@accesscentre.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www.accesscentre.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el: 519.858.23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Fax: 519.858.54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1" descr="171 Queens Avenue"/>
          <p:cNvPicPr/>
          <p:nvPr/>
        </p:nvPicPr>
        <p:blipFill>
          <a:blip r:embed="rId1"/>
          <a:stretch/>
        </p:blipFill>
        <p:spPr>
          <a:xfrm>
            <a:off x="5715000" y="3962520"/>
            <a:ext cx="1971720" cy="1809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9" name="Picture 12" descr="AC_ENG_3Colour"/>
          <p:cNvPicPr/>
          <p:nvPr/>
        </p:nvPicPr>
        <p:blipFill>
          <a:blip r:embed="rId2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sse Morrice</dc:creator>
  <dc:description/>
  <dc:language>en-US</dc:language>
  <cp:lastModifiedBy>aholmes</cp:lastModifiedBy>
  <dcterms:modified xsi:type="dcterms:W3CDTF">2011-09-06T15:46:43Z</dcterms:modified>
  <cp:revision>2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